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9200" y="1240920"/>
            <a:ext cx="4838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70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AEC-62DC-40D3-87AA-8004965DB308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70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本所為配合為落實動物保護教育，建立學生對於動物保護議題正確之觀念態度及體認生命教育知識，積極辦理校園宣導活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一 學生與犬隻互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二 宣導絕育代替撲殺 領養代替購買 培養學生正確動保觀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投影片編號版面配置區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C6A-466C-4983-BBCC-56A6941FAE0D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70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本所為配合為落實動物保護教育，建立學生對於動物保護議題正確之觀念態度及體認生命教育知識，積極辦理校園宣導活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一 學生與犬隻互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二 宣導絕育代替撲殺 領養代替購買 培養學生正確動保觀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投影片編號版面配置區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4B94-4A26-431E-9393-31319DAADD06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70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本所為配合為落實動物保護教育，建立學生對於動物保護議題正確之觀念態度及體認生命教育知識，積極辦理校園宣導活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一 學生與犬隻互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二 宣導絕育代替撲殺 領養代替購買 培養學生正確動保觀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投影片編號版面配置區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C2E7-8CFC-423B-8A01-50A386506CBE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70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校園犬實際案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投影片編號版面配置區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7AE-956F-4007-B08D-EAC96193E544}" type="slidenum">
              <a:rPr b="0" lang="zh-TW" sz="1200" spc="-1" strike="noStrike">
                <a:solidFill>
                  <a:srgbClr val="000000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DE4-985A-4355-A16F-AD767CA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6FB-BFAB-44CB-8AAA-8E25189F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477-912F-4B92-B149-F318B42A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572-3DE9-4B92-B97F-849BCC01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B1A-AD1A-45B0-A9C2-7D98A636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32B-33CD-417B-B353-DBF0DA8F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69C-3A30-4FCD-9793-0711DA5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67B-3A1E-48CB-B068-29CD6AA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7F3-3E33-4D70-8076-5675DF2B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234-D35A-4368-8AF1-80B73C4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A69-3449-4FF2-A1F5-E2FA26D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79C-8DC1-4395-B18F-FB039D0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標楷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0EC-8FEE-4F67-852E-6026FD2A61CB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矩形 6"/>
          <p:cNvGrpSpPr/>
          <p:nvPr/>
        </p:nvGrpSpPr>
        <p:grpSpPr>
          <a:xfrm>
            <a:off x="-12600" y="4943520"/>
            <a:ext cx="9905400" cy="1914480"/>
            <a:chOff x="-12600" y="4943520"/>
            <a:chExt cx="9905400" cy="1914480"/>
          </a:xfrm>
        </p:grpSpPr>
        <p:pic>
          <p:nvPicPr>
            <p:cNvPr id="49" name="矩形 6" descr=""/>
            <p:cNvPicPr/>
            <p:nvPr/>
          </p:nvPicPr>
          <p:blipFill>
            <a:blip r:embed="rId2"/>
            <a:stretch/>
          </p:blipFill>
          <p:spPr>
            <a:xfrm>
              <a:off x="-12600" y="4944960"/>
              <a:ext cx="990252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-9720" y="4943160"/>
              <a:ext cx="9902520" cy="19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0280" y="2276640"/>
            <a:ext cx="81723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校園宣導</a:t>
            </a:r>
            <a:br>
              <a:rPr sz="6000"/>
            </a:br>
            <a:r>
              <a:rPr b="0" lang="zh-TW" sz="60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強化精準捕捉實務操作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標題 1"/>
          <p:cNvSpPr/>
          <p:nvPr/>
        </p:nvSpPr>
        <p:spPr>
          <a:xfrm>
            <a:off x="1042920" y="3505320"/>
            <a:ext cx="817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圖片 2" descr=""/>
          <p:cNvPicPr/>
          <p:nvPr/>
        </p:nvPicPr>
        <p:blipFill>
          <a:blip r:embed="rId3"/>
          <a:stretch/>
        </p:blipFill>
        <p:spPr>
          <a:xfrm>
            <a:off x="4376880" y="5229360"/>
            <a:ext cx="53337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415800" y="1995480"/>
            <a:ext cx="915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84240" y="65412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4546a"/>
                </a:solidFill>
                <a:latin typeface="Arial"/>
                <a:ea typeface="微軟正黑體"/>
              </a:rPr>
              <a:t>強化精準捕捉及收容總量管制作業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擷取"/>
          <p:cNvPicPr/>
          <p:nvPr/>
        </p:nvPicPr>
        <p:blipFill>
          <a:blip r:embed="rId1"/>
          <a:stretch/>
        </p:blipFill>
        <p:spPr>
          <a:xfrm>
            <a:off x="692280" y="2224080"/>
            <a:ext cx="8520120" cy="3573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92280" y="176688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微軟正黑體"/>
              </a:rPr>
              <a:t>通報受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15800" y="1995480"/>
            <a:ext cx="915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84240" y="65412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4546a"/>
                </a:solidFill>
                <a:latin typeface="Arial"/>
                <a:ea typeface="微軟正黑體"/>
              </a:rPr>
              <a:t>強化精準捕捉及收容總量管制作業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擷取1"/>
          <p:cNvPicPr/>
          <p:nvPr/>
        </p:nvPicPr>
        <p:blipFill>
          <a:blip r:embed="rId1"/>
          <a:stretch/>
        </p:blipFill>
        <p:spPr>
          <a:xfrm>
            <a:off x="743040" y="2362320"/>
            <a:ext cx="842004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43040" y="1905120"/>
            <a:ext cx="26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微軟正黑體"/>
              </a:rPr>
              <a:t>現場捕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15800" y="1995480"/>
            <a:ext cx="915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84240" y="65412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4546a"/>
                </a:solidFill>
                <a:latin typeface="Arial"/>
                <a:ea typeface="微軟正黑體"/>
              </a:rPr>
              <a:t>強化精準捕捉及收容總量管制作業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擷取2"/>
          <p:cNvPicPr/>
          <p:nvPr/>
        </p:nvPicPr>
        <p:blipFill>
          <a:blip r:embed="rId1"/>
          <a:stretch/>
        </p:blipFill>
        <p:spPr>
          <a:xfrm>
            <a:off x="730080" y="2637000"/>
            <a:ext cx="8444160" cy="233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730080" y="2073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微軟正黑體"/>
              </a:rPr>
              <a:t>收容評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0" y="84240"/>
            <a:ext cx="9916920" cy="3213000"/>
            <a:chOff x="0" y="84240"/>
            <a:chExt cx="9916920" cy="3213000"/>
          </a:xfrm>
        </p:grpSpPr>
        <p:pic>
          <p:nvPicPr>
            <p:cNvPr id="68" name="矩形 1" descr=""/>
            <p:cNvPicPr/>
            <p:nvPr/>
          </p:nvPicPr>
          <p:blipFill>
            <a:blip r:embed="rId1"/>
            <a:stretch/>
          </p:blipFill>
          <p:spPr>
            <a:xfrm>
              <a:off x="0" y="84240"/>
              <a:ext cx="991692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5"/>
            <p:cNvSpPr/>
            <p:nvPr/>
          </p:nvSpPr>
          <p:spPr>
            <a:xfrm>
              <a:off x="415800" y="1135080"/>
              <a:ext cx="9221760" cy="19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4109760"/>
            <a:ext cx="95014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4546a"/>
                </a:solidFill>
                <a:latin typeface="微軟正黑體"/>
                <a:ea typeface="微軟正黑體"/>
              </a:rPr>
              <a:t>校園犬計畫效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4546a"/>
                </a:solidFill>
                <a:latin typeface="微軟正黑體"/>
                <a:ea typeface="微軟正黑體"/>
              </a:rPr>
              <a:t>可學習正確判斷動物語言，避免非必要之人狗衝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4546a"/>
                </a:solidFill>
                <a:latin typeface="微軟正黑體"/>
                <a:ea typeface="微軟正黑體"/>
              </a:rPr>
              <a:t>藉與動物相處、照護動物可培養學生同理心並梳理自身情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4546a"/>
                </a:solidFill>
                <a:latin typeface="微軟正黑體"/>
                <a:ea typeface="微軟正黑體"/>
              </a:rPr>
              <a:t>可偕同學校警衛巡視校園安全、驅離外來犬隻，擔任學童守護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92160" y="1052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95200" y="1109520"/>
            <a:ext cx="5551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4546a"/>
                </a:solidFill>
                <a:latin typeface="Arial"/>
                <a:ea typeface="微軟正黑體"/>
              </a:rPr>
              <a:t>推廣校園犬計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4546a"/>
                </a:solidFill>
                <a:latin typeface="Arial"/>
                <a:ea typeface="微軟正黑體"/>
              </a:rPr>
              <a:t>體認生命教育經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擷取"/>
          <p:cNvPicPr/>
          <p:nvPr/>
        </p:nvPicPr>
        <p:blipFill>
          <a:blip r:embed="rId2"/>
          <a:stretch/>
        </p:blipFill>
        <p:spPr>
          <a:xfrm>
            <a:off x="4016520" y="803160"/>
            <a:ext cx="2778120" cy="330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擷取3"/>
          <p:cNvPicPr/>
          <p:nvPr/>
        </p:nvPicPr>
        <p:blipFill>
          <a:blip r:embed="rId3"/>
          <a:stretch/>
        </p:blipFill>
        <p:spPr>
          <a:xfrm>
            <a:off x="6983280" y="803160"/>
            <a:ext cx="26496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擷取1"/>
          <p:cNvPicPr/>
          <p:nvPr/>
        </p:nvPicPr>
        <p:blipFill>
          <a:blip r:embed="rId1"/>
          <a:stretch/>
        </p:blipFill>
        <p:spPr>
          <a:xfrm>
            <a:off x="0" y="0"/>
            <a:ext cx="9906120" cy="6989760"/>
          </a:xfrm>
          <a:prstGeom prst="rect">
            <a:avLst/>
          </a:prstGeom>
          <a:ln w="0">
            <a:noFill/>
          </a:ln>
        </p:spPr>
      </p:pic>
      <p:pic>
        <p:nvPicPr>
          <p:cNvPr id="76" name="圖片 4" descr=""/>
          <p:cNvPicPr/>
          <p:nvPr/>
        </p:nvPicPr>
        <p:blipFill>
          <a:blip r:embed="rId2"/>
          <a:stretch/>
        </p:blipFill>
        <p:spPr>
          <a:xfrm>
            <a:off x="274680" y="189000"/>
            <a:ext cx="3163680" cy="3170160"/>
          </a:xfrm>
          <a:prstGeom prst="rect">
            <a:avLst/>
          </a:prstGeom>
          <a:ln w="0">
            <a:noFill/>
          </a:ln>
        </p:spPr>
      </p:pic>
      <p:sp>
        <p:nvSpPr>
          <p:cNvPr id="77" name="文字方塊 5"/>
          <p:cNvSpPr/>
          <p:nvPr/>
        </p:nvSpPr>
        <p:spPr>
          <a:xfrm>
            <a:off x="3436920" y="422280"/>
            <a:ext cx="27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4546a"/>
                </a:solidFill>
                <a:latin typeface="Arial"/>
                <a:ea typeface="新細明體"/>
              </a:rPr>
              <a:t>更多校園犬心路歷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4546a"/>
                </a:solidFill>
                <a:latin typeface="Arial"/>
                <a:ea typeface="新細明體"/>
              </a:rPr>
              <a:t>歡迎掃描</a:t>
            </a:r>
            <a:r>
              <a:rPr b="1" lang="en-US" sz="1800" spc="-1" strike="noStrike">
                <a:solidFill>
                  <a:srgbClr val="44546a"/>
                </a:solidFill>
                <a:latin typeface="Arial"/>
                <a:ea typeface="新細明體"/>
              </a:rPr>
              <a:t>QR cod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4546a"/>
                </a:solidFill>
                <a:latin typeface="Arial"/>
                <a:ea typeface="新細明體"/>
              </a:rPr>
              <a:t>華視新聞雜誌專訪報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35360" y="5373720"/>
            <a:ext cx="304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嘉義縣梅山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太興國民小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校犬阿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2:02:49Z</dcterms:created>
  <dc:creator>陳皇丞</dc:creator>
  <dc:description/>
  <dc:language>en-US</dc:language>
  <cp:lastModifiedBy>葉楨菱</cp:lastModifiedBy>
  <cp:lastPrinted>2018-09-11T06:37:10Z</cp:lastPrinted>
  <dcterms:modified xsi:type="dcterms:W3CDTF">2019-08-28T13:14:49Z</dcterms:modified>
  <cp:revision>1380</cp:revision>
  <dc:subject/>
  <dc:title>PowerPoint 簡報</dc:title>
</cp:coreProperties>
</file>